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4DA-7876-4D12-AA56-360796C9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8D8-2664-4BE8-9353-6D7A94F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64D-BECD-436B-B4AA-B16D5DBB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453-8C92-4957-B23C-E98493C1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6E9-B91E-4793-ABA9-8430BAE7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D11-7DC8-431D-8B30-76CB780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41F-5058-4D02-BFB9-1F30F82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172-648E-45E6-8DB0-4AF59BCB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54E-F53B-4B71-8E40-2C44817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FAB-BA2A-4E6A-AAA4-C82A217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6AE-B19F-4CD9-BC7B-50750C7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5CD-37A8-4654-B83A-33536A4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A6D-FC7D-4218-944D-DD56017829D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askerville Old Face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askerville Old Face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Baskerville Old Face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21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929120" y="2357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786040" y="3929040"/>
            <a:ext cx="36054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pariswiki.png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4" descr="we.png"/>
          <p:cNvPicPr/>
          <p:nvPr/>
        </p:nvPicPr>
        <p:blipFill>
          <a:blip r:embed="rId1"/>
          <a:stretch/>
        </p:blipFill>
        <p:spPr>
          <a:xfrm>
            <a:off x="1285920" y="1714680"/>
            <a:ext cx="59068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Anda</cp:lastModifiedBy>
  <dcterms:modified xsi:type="dcterms:W3CDTF">2012-06-17T16:49:18Z</dcterms:modified>
  <cp:revision>4</cp:revision>
  <dc:subject/>
  <dc:title>CAPITOL 1</dc:title>
</cp:coreProperties>
</file>